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FFA-6648-493A-BC10-706E2190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2CD-02DF-4E47-8E63-A6CBD9F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3F1-1084-4889-9B03-F98A9FB5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7DE-00ED-4ED1-A5F3-437A36A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0B2-8E48-4C15-9F20-1BBA814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73A-8C9F-49EE-9514-DF753CCE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B49-2038-4B51-9A80-DB3F316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B92-170F-4295-8A3F-FA949C4B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1E6-056A-4377-972C-175BEDD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ED0-D2CD-44A9-AEB5-5FEAE1D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826-E9B0-4659-9452-C4D0E69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D88-27EF-41D8-BCAD-79F1B92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B62B-D88E-489E-A083-413C1B85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7524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obby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874600">
            <a:off x="609120" y="0"/>
            <a:ext cx="365760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91120" y="685800"/>
            <a:ext cx="40384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2971800"/>
            <a:ext cx="1600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52680" y="3581280"/>
            <a:ext cx="26672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562720" y="5276880"/>
            <a:ext cx="31240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ow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thing that must be carefully read white background on black text is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739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have done a lot of combos with color of text, pape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ook a hour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and preparation took 10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my display took around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t took around 13 h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sd376.com/jh/staff/riffelc/riffel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designfromscratch.com/basics/readability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brary.albany.edu/imc/webdesign/page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credible.co.uk/user-friendly-resources/web-usability/web-page-readabilit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blogdesign.com/blog-usability/30-ways-to-improve-readabilit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dialoot.com/blog/5-tips-for-improving-readability-on-your-websit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dvl.com/Graphics/Color/color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mediazine.com/design-articles/technique-theory/rule-three-contrast-contrast-contras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lormatters.com/opti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ringerlink.com/content/e7w372883xv6786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ealth.yahoo.com/vision-living/macular-degeneration-coping-with-reduced-vision/healthwise--rt127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useof.org/sensitivity.htm#Contrast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Ri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arents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aper color with black text is easies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211428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09412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05320" y="3809880"/>
            <a:ext cx="1965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520" y="0"/>
            <a:ext cx="17794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ontrast makes it easier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hings you read is black text and white 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262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everyone  will choose the white background as the easiest because of the contrast, and that blue will be the hard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message in black ink in dark blue, red, yellow, green, and white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esponse sheet p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267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eople t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m fill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th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384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age is lighter in color it is easier for people to see if you have black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more vibrant color, like yellow, were easier for people to 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r the number, the easier it was for people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:1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: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:2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:3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:4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99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most part I was right, white was the easiest for people to read, but some people said yellow was easiest, so there was variety. But I was also right in that a  light background is best if you have black text, and that background color does affect read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0-05-08T14:28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